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2C8-1997-4F5F-ADB4-2260FB89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A73-D993-4956-A8F7-9028462A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38741-DC7E-4363-84D5-650E9BBE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91611-13F6-4155-BBE2-7A4BD32D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323D1-1FEF-423D-879D-B4DB6E39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65A1A-187C-4D84-BF73-09D82B3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12896-B789-47B3-85C0-F43F4A18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4B47D-EC9F-4174-98DC-BF69FAC7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2E480-AC6F-4437-99BC-352BAEEF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5E3C0-4380-43FF-85DE-550CB46F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9352D-8705-4EB1-87D1-77FB5C68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4A30E-4A60-4F0E-930D-298016E6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29F-559E-4B0F-85BE-59DA56D5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2451C-842E-42B4-A3D0-23ED22DF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B1385-9AA5-42FE-A598-08CE4A1B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D9A37-F925-4F87-ACA1-1CF6B4D8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3C422-9648-48C9-A55D-99BF4620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523F2-2A48-4D94-ABFA-C883B2DE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ED15C-1D16-4B2E-8A1D-3BDADE09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A75B0-1C64-49E8-9C38-25C0D81B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B6F7B-BCB4-441C-B8B9-46BBF916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993F1-3E24-4425-B878-2B78D7A7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8A6AA-2ECD-49BC-B1A5-B97F0AB7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8F7-2482-4D41-B214-D9F751DE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4A6DB-371F-43E1-B08C-D7DCF400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52324-56FA-4D90-B3CF-B440C323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C321B-4936-40E3-A163-D62FDCB2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E1E3A-5503-4FD5-92B6-8FA22DF1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C3B6C-E292-4E83-9B4C-1366169C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5F658-8656-4B2C-9C38-0E66F3CD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5A22E-9FF1-4AA4-8294-6353A4B8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443E8-65E7-481C-9AE1-9356C163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A93B0-79BA-4A27-9075-11D19981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BD560-BDC0-49E8-9E11-785C01D9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C7C3-C0EB-4E6A-ACA1-53A16D20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F5AF7-1128-4611-8A3E-1DAF9123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218B6-76DC-48ED-A242-A98FD0DA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08214-F2AD-4F0C-920E-6C4A40BC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4DB55-50F0-4B63-BD3D-49B0C3C6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82AC1-29BA-4761-B1FE-FFF9BEFB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784AF-9453-40A2-B116-B99EE907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8CD19-E934-451D-AAEA-4F83A7B6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7CA88-F126-4907-8228-125B29FE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1B9E7-6BB2-4BD1-9C11-0F8AB5AC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ED350-B0D6-44BC-B784-BDEE7CE6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7534-BDA2-443A-8D46-4CEB9B66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872CA-39BA-4218-85AC-F717055A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7F678-E01A-4129-A614-26A1EF1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EC602-789D-4650-94B1-78E336BC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B3DBD-0A8C-470C-B2C4-46033488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F116D-1E69-419B-AEEA-FA6B9B53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A4D5-9B8D-4EDB-AD92-EA12AD3A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4CD1-7430-4F70-B8C2-C66247B2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6957-34C5-4DB8-8992-654B8705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B272-3B38-461F-9FBA-666992F8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A606-C89A-47CE-B3B5-DA2CE971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C9C-1307-4890-B01F-860EE969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A5DB-019A-4DE7-ADDC-0E6E00F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2F06-50F5-4F05-9634-8591C795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1F77-BE5F-4382-A4A0-AE0AAD3F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801D-01C2-48B8-9B47-553A8F73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6054-119E-4230-A486-97FBE72D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3C91C-2E73-488E-BD65-4A007613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9246-8C12-4645-B125-039CEA3A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CB639-6234-42F5-BBA2-89C0D334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A595B-F62A-4548-B0F3-782C89D0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0071-48FC-47E4-A98B-2111C9A9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A97-F73F-405C-84B1-339DF81E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E54E-2318-4E7A-9CD2-4681FA32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4031B-BCCD-4F2F-B92D-6CE9D692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AC50-0754-4468-A510-225A7547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A9564-4599-4122-AF86-1B3EED59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AD3F-E4F8-4B4E-875A-32A6D33D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DFEB-3CEE-4AE3-843C-91D425DA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DCEB-C51B-4CE7-B4BC-4039443A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9894-6314-4DC0-BE6A-62D71636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A736E-0351-441F-B52D-9BCB4C25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51608-1E8A-4ED6-8594-188D1D2D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6E4-F4AC-4DD5-BD18-6A760783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EDF25-5046-400D-8673-62D92DAE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E7E1B-FE34-4E31-BA38-41CAFFBD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E821-B058-4644-9B90-42DADE3E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92865-6F14-43FD-B156-B62520AB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3D90-2F54-4B1B-8017-04116A9C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7A52-239A-49E0-A54A-59A948E6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1AEDF-2DBF-4089-9DA1-1ABCBA5B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BAEBC-F10F-4C90-9A74-D0BB0E45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3CA18-42FB-43B1-965F-05DCB3AC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21678-56B0-4F25-B14F-35E11756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804-FD58-4441-B433-26067922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4E880-E808-47AC-AC1C-86389E19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33A89-19FA-4B6B-B710-842B35AD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04331-218C-4C13-BC58-326FE90A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23E93-3B39-4AFA-B4A3-F8B896A6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20248-B995-4921-8501-7A5C4A3A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D4D5A-93A5-44E2-8EE3-879FC723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BB288-A343-452B-AB35-E6235C02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48CC8-635E-4B7E-BA08-3440CF59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1F203-1D90-4832-A5D7-B2D38714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5B8F0-E95E-4142-B119-72EB9564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878-43AE-4B1C-98E8-4ECEDE08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03137-7333-4FAA-BD56-741DE3C4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1C69A-7637-4D69-84A4-E65022B6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F14BA-B2EF-448C-B09E-A436A8FF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059F0-D907-4B36-B15A-A221E3B1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EFD28-77DE-42B8-965E-853B1FF1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041D7-30E0-4346-991F-3E9F16E5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41B82-0BCB-4D0F-BD23-9E473B5A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FA0DF-B1A4-4AAD-B686-A5CA6653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E21DD-76EB-4D6E-A83F-606BDD61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CEDF7-F3E0-4F7C-A332-511070D6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953-E709-4966-A4B9-B5318186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962F2-6ED2-48A2-9A7B-205C00DF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AEFF5-8DE6-433C-A56D-5376F71A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B5720-1401-4F31-A47A-2FD2AC35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3051-8A17-4D24-90A4-8FA7F791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44612-6193-4DE4-8661-42614114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18753-65D4-4E25-BE07-B17F4EE3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B2786-1EA1-4A0B-A4F5-4C525CAD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7BB16-A797-4234-87B9-DA3D9595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3839D-5A26-4BE5-B73A-D2EB2C07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037F2-539A-48A9-A230-BDBB6CF8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195-3FB6-44D5-BA1E-C6130D4C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AD390-D9F1-49A3-BE12-B9E59AB8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470AA-A71D-42E6-89DA-1A614D17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D02E7-0CB4-404F-8D10-5591358B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AD470-6461-4D3F-821A-D98B748E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9A1AD-FEF0-486C-AC84-BEC1FAFA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53277-6405-41D1-A698-2EB78690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8116F-1A24-43FD-B4AE-C90B27F9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AD6D2-0DEC-4242-9901-D1785025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6AFDA-3E7C-4C6D-925D-28FC0D30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0EE4B-4938-4FB4-87A5-4FEF0921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EDA-56B0-4B2C-A754-1982E011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5717F-5712-4DAD-BAF8-E02A5362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06F7E-D1CD-458E-975B-403EEFE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A3E1A-781C-43AA-9A78-54E6677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5FF7D-F81D-4A62-92AA-2ABFE841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FE85D-25BE-4841-BA2B-745B14A2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7581C-14A3-4F12-B7C0-9C34160E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14C00-040D-4CF5-A211-75728812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7A67C-B7A5-49CF-8A77-01EBB1CF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F58A2-F47F-4CE0-814D-536AB6BB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E60FE-7FD0-445D-8EC9-6257AA78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C9D7-AFA6-4D47-BF8A-4DAB3248B28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A5D8-FE6A-4B04-8D66-F455459523C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23CB-37F3-4C5C-B933-207ABFC446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B723-A378-4044-97AE-E644C6B2A6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352E-8589-4EA6-AB7F-53742D7419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8B43-F37E-4442-9AE7-E6628D95868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F200-1464-434E-9D36-95E5C13D85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A452-2672-4572-ACF7-8EA7EF1646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3979-BED3-45A1-AFBD-E421C9E450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199B-CDB5-44CF-B4A9-7A26D3F421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2E23-936A-4FC3-9B38-E421F9B3A7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F9CA-70DB-417E-A7E0-D711E2E5E9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04 Keď slniečka lúč posled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lniečka lúč posled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v tmách svoj stráca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y vítame deň sobot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odpočinku čas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v deň ten bremä staros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áce zložiť 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mannu hojnej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rúk Pánových vziať smi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ie vzácne chvíle sobotn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 Božej lásky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ísma zvesti radost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dnes je spás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zlomil hriechu oko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l žitiu nový s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a mocou svojou obnov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našej zemi mier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_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55:03Z</dcterms:modified>
  <cp:revision>12</cp:revision>
  <dc:subject/>
  <dc:title>Je veľký náš Pán, on slávy je Kráľ Nech do všetkých strán  spev vrúcnych znie chvál.</dc:title>
</cp:coreProperties>
</file>